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explode.wav" ContentType="audio/x-wav"/>
  <Override PartName="/ppt/media/image10.wmf" ContentType="image/x-wmf"/>
  <Override PartName="/ppt/media/image1.wmf" ContentType="image/x-wmf"/>
  <Override PartName="/ppt/media/image5.wmf" ContentType="image/x-wmf"/>
  <Override PartName="/ppt/media/breeze.wav" ContentType="audio/x-wav"/>
  <Override PartName="/ppt/media/pu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CD5D-F70A-496C-B169-8295733B19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C2D8-A7AC-400B-A1CE-1674C52C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91F-3966-4120-84C8-F45E9D60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BE4-BEFE-4E60-A458-72C1A469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0B4-9D55-44E5-B8D6-09E30304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E73F-9BBB-4EDA-978A-3B07A56D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11A4-655F-4026-9D8D-73749602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4218-B8DC-41AC-8089-ADC2D338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B105-701D-4D26-B033-A8667366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5AEE-4D79-4951-9469-19049D7C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F02F-AB8E-48BB-92D6-F4B5129D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5528-5463-4677-A1B9-498E65E9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799-89C4-45AB-ACA6-CA734BDD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960D-B085-489B-92BB-545E5B10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EC08-44AD-4944-AB0B-8D2D7166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609D-D111-4801-B63E-59145D2D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4E46-93CF-440C-B036-B65F601D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BF65-39EA-4ECC-8A5B-776A13DA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CD5-A28E-4FAF-AE82-78716129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AD4-06B5-46BC-806E-FEF7B0D8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F12-E13F-4A73-9A32-8FFC3B18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49B-12B9-4AB1-8D5F-B26BE9BA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75B-2C4A-4DA4-B119-BF50930B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3BB-0C45-4AEC-8BBF-812E0E7C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DE3-840C-4CBA-BCEE-2BEC5865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9D6B-720F-4091-AB72-DAF6910DDF7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28D8-19B6-46A6-AEAB-4CCAED7492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audio" Target="../media/breeze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audio" Target="../media/push.wav"/><Relationship Id="rId17" Type="http://schemas.openxmlformats.org/officeDocument/2006/relationships/audio" Target="../media/push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 rot="171000">
            <a:off x="1142640" y="457200"/>
            <a:ext cx="7010280" cy="29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tionaliz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2362320" y="3886200"/>
                <a:ext cx="95868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Group 9"/>
          <p:cNvGrpSpPr/>
          <p:nvPr/>
        </p:nvGrpSpPr>
        <p:grpSpPr>
          <a:xfrm>
            <a:off x="1294920" y="3657600"/>
            <a:ext cx="3048120" cy="2286000"/>
            <a:chOff x="1294920" y="3657600"/>
            <a:chExt cx="3048120" cy="2286000"/>
          </a:xfrm>
        </p:grpSpPr>
        <p:sp>
          <p:nvSpPr>
            <p:cNvPr id="161" name="Oval 4"/>
            <p:cNvSpPr/>
            <p:nvPr/>
          </p:nvSpPr>
          <p:spPr>
            <a:xfrm>
              <a:off x="1600200" y="3657600"/>
              <a:ext cx="2438280" cy="2286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H="1">
              <a:off x="1294920" y="3657600"/>
              <a:ext cx="304812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5670720" y="3835440"/>
                <a:ext cx="9586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13"/>
          <p:cNvGrpSpPr/>
          <p:nvPr/>
        </p:nvGrpSpPr>
        <p:grpSpPr>
          <a:xfrm>
            <a:off x="4267080" y="4614840"/>
            <a:ext cx="838440" cy="304920"/>
            <a:chOff x="4267080" y="4614840"/>
            <a:chExt cx="838440" cy="304920"/>
          </a:xfrm>
        </p:grpSpPr>
        <p:sp>
          <p:nvSpPr>
            <p:cNvPr id="165" name="Rectangle 10"/>
            <p:cNvSpPr/>
            <p:nvPr/>
          </p:nvSpPr>
          <p:spPr>
            <a:xfrm>
              <a:off x="4267080" y="46148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4267080" y="48434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2306520" y="419112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4038480" y="4165560"/>
                <a:ext cx="236232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6697800" y="419112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4" name="Group 8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15" name="Text Box 9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10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3060720" y="435276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4800600" y="429588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6"/>
          <p:cNvSpPr/>
          <p:nvPr/>
        </p:nvSpPr>
        <p:spPr>
          <a:xfrm>
            <a:off x="0" y="763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0" y="243828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call this process           </a:t>
            </a: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0" y="1676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191120" y="571500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58800" y="1455840"/>
                <a:ext cx="154620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394000" y="1379520"/>
                <a:ext cx="245088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6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4998960" y="1379520"/>
                <a:ext cx="193536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 Box 9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7143840" y="1905120"/>
                <a:ext cx="1314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9" name="Line 11"/>
          <p:cNvSpPr/>
          <p:nvPr/>
        </p:nvSpPr>
        <p:spPr>
          <a:xfrm>
            <a:off x="5486400" y="251460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5029200" y="1523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3"/>
              <p:cNvSpPr txBox="1"/>
              <p:nvPr/>
            </p:nvSpPr>
            <p:spPr>
              <a:xfrm>
                <a:off x="4619520" y="1165320"/>
                <a:ext cx="4096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2874960" y="3809880"/>
                <a:ext cx="1917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457200" y="1371600"/>
                <a:ext cx="183024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2514600" y="1380960"/>
                <a:ext cx="303696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 Box 4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5060880" y="3801960"/>
                <a:ext cx="95904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3255840" y="4952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2874960" y="396252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0"/>
              <p:cNvSpPr txBox="1"/>
              <p:nvPr/>
            </p:nvSpPr>
            <p:spPr>
              <a:xfrm>
                <a:off x="3941640" y="5334120"/>
                <a:ext cx="355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5715000" y="1379520"/>
                <a:ext cx="190008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2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4"/>
          <p:cNvSpPr/>
          <p:nvPr/>
        </p:nvSpPr>
        <p:spPr>
          <a:xfrm rot="20435400">
            <a:off x="304920" y="39463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80880" y="22860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304920" y="3657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914400" y="5410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10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2971800" y="6242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242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609480" y="457200"/>
            <a:ext cx="4426200" cy="1455840"/>
            <a:chOff x="609480" y="457200"/>
            <a:chExt cx="4426200" cy="1455840"/>
          </a:xfrm>
        </p:grpSpPr>
        <p:sp>
          <p:nvSpPr>
            <p:cNvPr id="251" name="Text Box 3"/>
            <p:cNvSpPr/>
            <p:nvPr/>
          </p:nvSpPr>
          <p:spPr>
            <a:xfrm>
              <a:off x="609480" y="68580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implify: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2" name="Object 4"/>
            <p:cNvGraphicFramePr/>
            <p:nvPr/>
          </p:nvGraphicFramePr>
          <p:xfrm>
            <a:off x="3352680" y="457200"/>
            <a:ext cx="1683000" cy="145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457200"/>
                      <a:ext cx="168300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4" name="Group 5"/>
          <p:cNvGrpSpPr/>
          <p:nvPr/>
        </p:nvGrpSpPr>
        <p:grpSpPr>
          <a:xfrm>
            <a:off x="763560" y="2362320"/>
            <a:ext cx="5481720" cy="1455480"/>
            <a:chOff x="763560" y="2362320"/>
            <a:chExt cx="5481720" cy="1455480"/>
          </a:xfrm>
        </p:grpSpPr>
        <p:graphicFrame>
          <p:nvGraphicFramePr>
            <p:cNvPr id="255" name="Object 6"/>
            <p:cNvGraphicFramePr/>
            <p:nvPr/>
          </p:nvGraphicFramePr>
          <p:xfrm>
            <a:off x="763560" y="2362320"/>
            <a:ext cx="2136960" cy="14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60" y="2362320"/>
                      <a:ext cx="213696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7"/>
            <p:cNvGraphicFramePr/>
            <p:nvPr/>
          </p:nvGraphicFramePr>
          <p:xfrm>
            <a:off x="2743200" y="2362320"/>
            <a:ext cx="3502080" cy="145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43200" y="2362320"/>
                      <a:ext cx="350208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Text Box 8"/>
          <p:cNvSpPr/>
          <p:nvPr/>
        </p:nvSpPr>
        <p:spPr>
          <a:xfrm>
            <a:off x="6629400" y="2514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0" name="Object 9"/>
          <p:cNvGraphicFramePr/>
          <p:nvPr/>
        </p:nvGraphicFramePr>
        <p:xfrm>
          <a:off x="914400" y="4114800"/>
          <a:ext cx="46483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114800"/>
                    <a:ext cx="46483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0"/>
          <p:cNvSpPr/>
          <p:nvPr/>
        </p:nvSpPr>
        <p:spPr>
          <a:xfrm>
            <a:off x="6172200" y="4495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943600" y="41911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8862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7"/>
          <p:cNvGraphicFramePr/>
          <p:nvPr/>
        </p:nvGraphicFramePr>
        <p:xfrm>
          <a:off x="3200400" y="152280"/>
          <a:ext cx="15238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5238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1" name="Object 16"/>
          <p:cNvGraphicFramePr/>
          <p:nvPr/>
        </p:nvGraphicFramePr>
        <p:xfrm>
          <a:off x="457200" y="1917720"/>
          <a:ext cx="16002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17720"/>
                    <a:ext cx="16002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5"/>
          <p:cNvGraphicFramePr/>
          <p:nvPr/>
        </p:nvGraphicFramePr>
        <p:xfrm>
          <a:off x="2209680" y="1828800"/>
          <a:ext cx="152424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828800"/>
                    <a:ext cx="15242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17"/>
          <p:cNvSpPr/>
          <p:nvPr/>
        </p:nvSpPr>
        <p:spPr>
          <a:xfrm>
            <a:off x="4349880" y="273960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1981080" y="2514240"/>
            <a:ext cx="144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Object 19"/>
          <p:cNvGraphicFramePr/>
          <p:nvPr/>
        </p:nvGraphicFramePr>
        <p:xfrm>
          <a:off x="304920" y="3478320"/>
          <a:ext cx="2133360" cy="14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478320"/>
                    <a:ext cx="213336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1" name="Object 21"/>
          <p:cNvGraphicFramePr/>
          <p:nvPr/>
        </p:nvGraphicFramePr>
        <p:xfrm>
          <a:off x="380880" y="5048280"/>
          <a:ext cx="1752840" cy="13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5048280"/>
                    <a:ext cx="17528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2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4" name="Object 23"/>
          <p:cNvGraphicFramePr/>
          <p:nvPr/>
        </p:nvGraphicFramePr>
        <p:xfrm>
          <a:off x="2743200" y="4991040"/>
          <a:ext cx="19051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4991040"/>
                    <a:ext cx="1905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25"/>
          <p:cNvSpPr/>
          <p:nvPr/>
        </p:nvSpPr>
        <p:spPr>
          <a:xfrm>
            <a:off x="2209680" y="55238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2286000" y="5638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Object 2"/>
          <p:cNvGraphicFramePr/>
          <p:nvPr/>
        </p:nvGraphicFramePr>
        <p:xfrm>
          <a:off x="1143000" y="685800"/>
          <a:ext cx="274320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2743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3"/>
          <p:cNvSpPr/>
          <p:nvPr/>
        </p:nvSpPr>
        <p:spPr>
          <a:xfrm>
            <a:off x="5105520" y="1143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066680" y="3200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" name="Object 5"/>
          <p:cNvGraphicFramePr/>
          <p:nvPr/>
        </p:nvGraphicFramePr>
        <p:xfrm>
          <a:off x="1371600" y="4267080"/>
          <a:ext cx="19810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267080"/>
                    <a:ext cx="19810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4114800" y="4351320"/>
          <a:ext cx="5029200" cy="14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351320"/>
                    <a:ext cx="50292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re is an agreement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16"/>
          <p:cNvSpPr/>
          <p:nvPr/>
        </p:nvSpPr>
        <p:spPr>
          <a:xfrm>
            <a:off x="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mathematics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6320" y="185904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at we don’t leave a radical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76320" y="266688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the denominator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6320" y="35053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21"/>
          <p:cNvSpPr/>
          <p:nvPr/>
        </p:nvSpPr>
        <p:spPr>
          <a:xfrm>
            <a:off x="5410080" y="2743200"/>
            <a:ext cx="3530880" cy="3048120"/>
          </a:xfrm>
          <a:custGeom>
            <a:avLst/>
            <a:gdLst/>
            <a:ahLst/>
            <a:rect l="l" t="t" r="r" b="b"/>
            <a:pathLst>
              <a:path w="2224" h="1920">
                <a:moveTo>
                  <a:pt x="1536" y="0"/>
                </a:moveTo>
                <a:cubicBezTo>
                  <a:pt x="1880" y="416"/>
                  <a:pt x="2224" y="832"/>
                  <a:pt x="1968" y="1152"/>
                </a:cubicBezTo>
                <a:cubicBezTo>
                  <a:pt x="1712" y="1472"/>
                  <a:pt x="856" y="1696"/>
                  <a:pt x="0" y="19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15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4"/>
          <p:cNvSpPr/>
          <p:nvPr/>
        </p:nvSpPr>
        <p:spPr>
          <a:xfrm>
            <a:off x="76320" y="19051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the same number.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Text Box 6"/>
          <p:cNvSpPr/>
          <p:nvPr/>
        </p:nvSpPr>
        <p:spPr>
          <a:xfrm>
            <a:off x="7632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323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2468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4114800" y="178452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Text Box 10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1371600" y="235440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5" name="Text Box 7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556000" y="2398680"/>
                <a:ext cx="19396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4660920" y="2100240"/>
                <a:ext cx="234936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0"/>
              <p:cNvSpPr txBox="1"/>
              <p:nvPr/>
            </p:nvSpPr>
            <p:spPr>
              <a:xfrm>
                <a:off x="7238880" y="2492280"/>
                <a:ext cx="355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0" y="16002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4106880" y="990720"/>
                <a:ext cx="94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Text Box 10"/>
          <p:cNvSpPr/>
          <p:nvPr/>
        </p:nvSpPr>
        <p:spPr>
          <a:xfrm>
            <a:off x="0" y="2438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0" y="4114800"/>
            <a:ext cx="9144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’d better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0" y="3276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3886200" y="685800"/>
                <a:ext cx="175752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4"/>
              <p:cNvSpPr txBox="1"/>
              <p:nvPr/>
            </p:nvSpPr>
            <p:spPr>
              <a:xfrm>
                <a:off x="5791320" y="1231920"/>
                <a:ext cx="993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0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08" name="Text Box 2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3:45:22Z</dcterms:created>
  <dc:creator>Bob Greer</dc:creator>
  <dc:description/>
  <dc:language>en-US</dc:language>
  <cp:lastModifiedBy>RomaK</cp:lastModifiedBy>
  <dcterms:modified xsi:type="dcterms:W3CDTF">2015-09-04T09:19:52Z</dcterms:modified>
  <cp:revision>8</cp:revision>
  <dc:subject/>
  <dc:title>PowerPoint Presentation</dc:title>
</cp:coreProperties>
</file>